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662B-7593-42E1-B3DB-98F65889D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E980-7894-44C6-8E44-C315C7C27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EE4BB6-6C74-4260-9E7E-A8D64D2D7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E0E63-3F06-4A02-BF8B-DFD9E0C22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214203-1758-4F0E-93FB-C69F96F09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1014D8-79C2-49D9-9280-3E88EFF4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021C48-8A3D-46B4-84CD-F116296A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879568-733C-430C-8228-CCC19CDB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7FDF41-C4FF-470E-9707-D599A7F03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F5562A-D44A-431F-A7F3-5D2370A11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D87D63-EC52-45CA-A116-7ED17E936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582481-5208-40E2-AE41-47E327990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383E-EFC2-4195-A3DF-9BC63645E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33EDC9-ED33-4E35-A3D2-27305CCB4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DBB189-2DCA-4F45-A479-95BA3117C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7A88D1-D14A-48AA-A251-77A7D7FA3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490678-09C4-4BB9-B077-7A30F7400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91BF96-4DBC-4F2A-8558-8CE0087F1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CF3068-5385-4CDE-B1EE-421ECA83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C849EE-BAB9-48E7-A63F-2E13D583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32F211-E1BD-4DF4-9E2F-A645B1EA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79CC8E-DF54-4B40-A52E-B0C00DB9A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59A50C-42D0-4DB0-BA57-B537D51FA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A295-0221-452D-BAD6-C4911253E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A4A37C-214E-4CF4-AAFB-087AFA792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6B3E5D-8E1A-420A-B0DF-E3340DDCE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E0ED57-F068-4255-8B98-FB5D418CC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7F766A-7568-4E67-8228-80B92BD7E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0D5EE9-ECBB-48AD-B16D-D5AB12AC5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E1C56D-E95B-4063-BA84-8DCB87201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4E8478-1F3A-41E0-BA5C-B01A24790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8351DE-0FE6-46BD-9650-238E3370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31B18D-2459-4DCC-890D-D9549BBF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22B20C-492F-44C0-AF61-21890434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2CF5F-3379-4446-AC02-911CB6218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9D25E0-A074-46F2-832E-9DADF3DEF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C88D8B-1EA2-4D90-8E5B-E552FE0BE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EBFB14-2243-4072-A8B7-059DBABDA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0D8471-7B5D-48F7-9FB5-C615FD177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3AEB91-4A80-423D-842F-7CBFA426D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95E627-2BC8-41F5-92D3-1B5871D96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9E81B9-B79E-48E2-B3DB-A17CF4CD2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AB2788-3303-4FE6-A066-02EF24935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0B8C88-6124-44C8-959C-495EF4BD2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AA4466-20CC-4D8F-9CA2-32DEE407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58EA3-4F63-4F36-8386-059F1CE97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F9D8EB-87AC-4674-8615-DBD2D5EB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C4098A-A1A8-472E-9BA3-BF665BC0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27C983-B583-4213-8D09-5FBBA41B6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7B6460-27DF-4F74-B16C-33A80EBA3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338295-79BA-460D-A290-FFF5E808D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E36F27-BBAD-4FD8-B2DB-9F9ED1C9C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AB5399-F600-44C3-8957-9170D99B5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1B397D-320B-49D1-8883-BEBBDE7AB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C6DBE2-6E69-4368-850D-A46E53E89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817025-CFF1-4C75-8723-D1434AC9B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8C78B-1EE1-4DC6-A719-E6AA51159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287686-AEB2-465C-8E75-8FE3F12CE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C8B3AE-F9A7-48A3-8F34-15444958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B45DF9-85C7-4B45-B098-F1CF5E94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0997D8-A9AB-4BAE-B5E5-61A3DE11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CE4499-C12F-43B3-A6B2-B9D021E34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491E12-F83F-4297-AF2B-32138084B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90F555-8E6D-460C-BE1E-C0F5DB50A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0C822D-45B2-4385-8ACE-8CC2DABF4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97BF11-E14E-4EC0-9922-67F34094D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724E44-6F63-4CC3-994F-A291B235A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3D4F8-2C8D-46A2-B658-CD3F99B13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573A8A-B18A-496C-B37C-B0A7D6971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81F38F-DF77-46DF-B5B3-A226F1FF2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F7AAAE-DCD1-461C-8C7A-0C1D2C495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C8687C-8208-499F-8447-022E376B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54390D-81B7-4838-ADB7-1CF2391E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761513-5DE4-4170-BD3F-4793D5CA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091890-2D50-4021-AA01-3A55128E1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627014-14D9-47E2-9368-44691236F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358B98-F42A-42BB-90A4-E912AC8BC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9C9AE8-D151-4E9F-823C-B799FBF97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48AAF-39AD-4DC8-98A4-F53EDCB4D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A364B2-2F25-47FD-BD30-6EC3F05E3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4F64A4-8927-4860-9417-B435AFED4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9751D9-85B0-471A-9081-F5ED8A945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905AD1-1B0F-4621-A95A-309D56C4B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900519-A243-4001-99B7-84997EEB7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46B9FF-73A4-419F-9294-8AEC69EA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D0B039-3466-41B7-9126-95AC0AB2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D5E33F-DB44-43F1-A7F8-85891897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A7A176-E79B-4080-B79D-F7685DB10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E372F0-8977-41E0-AADF-1A39AACA1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4C1F5-1BFB-44D0-80D1-82C250C8E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9AF114-F5DB-444C-B003-184093E20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ED2808-F92B-4A25-B04D-626787B1E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FE48A9-2D33-43F1-8E04-ACACF7736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5F6210-C679-435E-AF67-E361021F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B69ADE-BBAA-4D00-849B-A646EC92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597470-2732-4C59-93FC-4064B3867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DDBBE5-1F31-411F-A601-50CBBC066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E58EEC-33EA-4BFA-AA6C-0E4C5F5D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269674-54B3-40C9-9EA4-3DF01DA3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F1CE1C-ACB7-403E-BC05-7B303E19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9D388-FCBC-428D-8A1B-35AC90A3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D74946-F80A-46B2-BCAF-D8122C0A1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412854-8E23-4B66-B4E1-154530074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BEE69E-189C-4B86-99B0-F51473B19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BBA1EC-C0CC-4F17-B59C-A5A2190A6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8B1157-1292-4478-9B6A-FECAA04DE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0AC8F8-C9E0-4A3F-A5EB-FD975C82C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516768-A1BB-4A46-9281-4EB4534B6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E7737D-91B0-49D9-A9B5-E4851EB68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622CB4-0562-4502-A33D-E9B21B0E9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7F68C2-AF14-4D65-8D2B-7D29A304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4958-3DBA-4787-98D0-15809D02F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E47D5-5B8D-4FAD-B589-5E70E59C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8FAFF3-21BE-4506-851A-C5808795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174A96-79BA-470B-BC35-F62836A6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D09F80-E2F4-42A2-AF1D-99F7A02CA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3B8ECD-3C59-4810-B66A-572B5232C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7865B4-5492-444A-AAE5-50AB7428A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0F2CCF-A0D6-4C5E-8260-D0319372B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94F792-BA59-40BD-BD48-9C0754003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07FBD9-888A-41E9-BE25-A174A8ED3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E1213B-5967-4CCC-BE6D-C6717B4E8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CD0559-5CDA-4D13-A69F-21DAFC18E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FD36A-8BAA-4443-A1AC-AEB7F473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B350A7-7808-4B4A-8104-04C7F72B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85354D-E5B1-4B2A-B46C-3247968A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9D22AA-885B-4012-94AA-380ADF62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0671D7-FE89-4D57-A3AD-93F95049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0459D7-39D2-432D-A0D2-D275D19F6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3BD7B1-0133-4184-9DDA-A41EB4CBC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B2756A-D084-459E-A515-BB9F8C352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9DCCF1-EF37-4EB6-AA1C-3D89BCD3A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F372FB-83CA-44AC-A191-114319147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E74486-2E39-49F1-959A-9CFEEB6CE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2C3DF-03B0-4A4C-B802-7607DB6B8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DD089D-6315-4801-BF2F-6148FD258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69EDC0-48FA-47BB-843B-AAC79DB7C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5901E6-0539-4211-8A2E-AC453D71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A413BB-93E5-4AF3-8010-12D99E7C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BD2900-3A0D-42B0-AEBB-5B5A8CF4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FF1B32-87C2-4488-A5BB-4B03C525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8E2F02-5279-46F9-9EB6-534AAB2D8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2BFD07-6EB9-4126-B41D-B84E044E4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7124DC-EDA7-4A42-867B-D40C65045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1F2FA8-A103-4226-A6EE-D008FCA05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83A42-A919-411C-BDCC-B48DF3838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D9C604-1F03-45E5-AC4B-C5DFB353D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7BD848-E463-468E-8E3B-48AABDB4B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0F6CBE-0FF2-4E85-879B-B4E5CF842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B0DD1A-D5BA-49A4-86D9-FCCB64043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202C0E-B165-4D7D-8E9D-40608DB76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3A65D1-FC96-4654-9850-2C3241E1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FA1D08-F197-4372-8999-5202038E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E4CDB0-3DCB-4E7F-B963-FB6BF1F6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71C83C-CA5A-43B2-AC13-BB4449FB0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515C70-9195-41BD-9263-6871600B3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15434-D92B-4793-B697-5EFA8231A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D47A8E-163F-4D30-93C4-6374A1E1E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18D09E-15E6-4F0B-B5F1-273BFC809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A1FB9F-E2A8-4D01-A98F-D26F5DB73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EF8C05-52F9-413F-9224-F2BAEE12F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5ACC47-2B38-4DBA-A9EB-E399E4AA6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A84178-F600-4BD0-8B7B-41B45E6F7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E6058A-70A0-44FD-A68A-6EA544913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17D424-CD0C-4629-80EC-A4E80A7E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13831A-EDFF-435B-AABB-6E709660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014751-EFA9-4796-8237-739E80E7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954596-AD88-4A8A-ADAE-47A33F293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18131D-DCE5-4893-9E18-A163D97DA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66ADA1-A0EC-4F0C-893D-538567636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6C8C-05D2-4F0D-9E88-E5963DB05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F0F73-FC85-489E-A58B-40B76DEDB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C4AA4-71BA-4BB0-B1E8-88B4ACA6F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9A86A-11BA-4B7E-BA28-58042513E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CF59-B267-461C-9AAA-552078203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14DC9-8730-4B10-ADDF-A1324478D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B9044-4220-44BB-A367-4F682D50C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9E388-350A-43CE-89A4-81A0F3A23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2A178-A4F8-448E-AC22-BC721F1C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76E3B-94DD-431C-B956-13E54C7A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F8B2C-5C1D-45A6-9609-31834C01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D1C2B-7275-43ED-95D4-B66141B6A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B1D5D-9F28-40D7-AB6A-DAB8E3163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38D47-987E-400B-82AC-8CF84DABF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F8BC1-802E-4989-A7B5-6EC90FDFA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509E-6629-458A-9CEB-F7C07CAC7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BFACA-C27D-4668-96BE-9EE5C8935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1B38F-C0B8-4CC5-9734-D6F3A7B85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27352-5C07-4C68-A3D4-1E529FA7B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78356-A570-46EE-9747-E040E23A0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26D93-99F6-420B-9830-EE3B41B2F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EACC0-7E19-471A-BE54-2AA687E5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74969-3174-4D3A-B7FE-7C131DC5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0972B-2D5F-4BD0-A4E2-5B2F20D1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B7468-E81A-408F-8BC9-AA5A1E040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71874-B23E-4F7F-9C09-283D5563A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0395-E88A-4092-9882-F18A149DF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96809-EFFF-43E2-AA34-7D4AC6A60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33BF9-2696-4BB9-9048-80824DB57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095AE-2E46-40E3-8C6D-5A71E5074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412B7-942E-4A8A-BCEC-C525A8AFB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6AC87-D552-4868-8727-9ABF512E0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93153-F087-4582-98FA-0737C5EB6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A85A1-6E7E-4AE1-82FE-41A82FE60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2F240-A1E3-489C-96FC-4E8C5CD4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68283-99C3-4EE8-BBE7-7A475A90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94007-9353-47A9-9D94-E7E75618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5F8C-6C67-485A-AE57-E888A568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079D2-E95D-4D4E-89E7-076B79BDB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74007-E0F8-40DF-8248-1CF717ED9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79A59-5918-4100-8D26-9CA51E156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F8990-C16D-4134-9995-0160A83A8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D19CB-CC65-4B41-AB71-EA861A9DD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8A385D-91D8-40BF-9917-F7A1F477B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8741A9-22C0-4C38-B4A0-A8C1E32E7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8B3DA-29D7-4336-83C1-548EF71C4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1A60F-7838-4CAA-81AE-C7D8172FF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4CB8E-5736-4CBD-83CF-DDBE8AEF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863E-AEFB-4160-BAB9-EDD56369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7BBD3-AAE9-48AA-976D-DED12524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CD1D8-D005-4A9E-9C8E-D8B7DE12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4844D-01FB-4DB9-AD9A-BB4200CD3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5C3E5E-0385-4EAF-91FC-70934BD91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35934-D6CA-4F83-A311-A1C1099D6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F7F537-8325-4C7C-BB64-89F3B86E8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AEF418-061F-4B1A-9F8E-2A8FC1AC7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E2CE5-C79B-4D41-A84A-FC1F71BF4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4D6474-C57C-45B2-A3E7-C6B43C110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8F360-9260-489A-A22D-1A881D12C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9014-6F74-444C-8852-F0CDFAE9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D20DC0-69A0-4960-9A6C-DA93B0C2A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F4D15-EE94-4859-ADA1-82DC0D3F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3689F0-A035-4F38-9922-238194D5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F0B3AF-BCD5-417F-81BC-0697FEAC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36841-DCE1-4486-8EFB-6A8E3A4EB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0C4AE-4784-41A4-85A0-EDE948203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EBC01-3A75-4EFA-8AD1-A80474E49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B2D091-F9B3-43AE-AA6E-80D23A519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096CD6-80AA-45C5-B4CB-B6F2D1C55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09CA88-D226-4F5C-9AA4-B8DBF23C7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DE13A-9F3D-4714-8AA1-859A03DE370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CD42F-710A-4D1B-BF64-C8C47A2607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0083C-98B0-4B11-A285-3972B3ADF4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C51FD-C37A-4CC0-A5D0-EFB25B0BCB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1DA9F-3999-492B-A5A4-D4BA615AA6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1FA62-F3EF-4568-8884-3210FD28AA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17454-722C-497E-9245-B0B094A996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9F228-A576-4CF5-BDD1-1ED91B633D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413B5-7C82-41F2-BCCF-7BFF987CBF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5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6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07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8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09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1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2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4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5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1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1B897-0FB5-4225-A2DF-52E91909BB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C8BB8-B41D-4A92-8E62-EDF97F26F7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67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68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3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4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30850-BC06-403D-AEF0-2DB7177556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FB897-AEF4-4DE6-8BC0-4C5D1B35BC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6EF03-E45F-4FF5-AB68-3ED5C8A82C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C2517-C31E-4431-A42C-8F8C24C2AB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5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6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2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B9F09-B58F-41A0-9FED-63FB8F6DA3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92CA6-60B9-45BC-B5B9-A9D4B0CED0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4B615-4398-4168-9C6B-8D975D8EBD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78B15-D542-4C11-9F88-8941211817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2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3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4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7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68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9C0AD-9753-45F3-9D31-93A0BF658B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CCBBA-4D8D-417D-B94C-16F1B62D06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9D3B5-D542-412B-B4F7-D70AB1B15E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9C086-5A0F-4592-B1AB-9281ADB34A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4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CFDFB-B164-4CA1-8361-5EAA26C3AD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7D470-B932-4534-9E01-A559E97D40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59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0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1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2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4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5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7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68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69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4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5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3600A-BB1B-4F59-97E9-5EE6BAB739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B1A6D-678E-44A8-BB64-BF0B063C3B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3078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6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28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4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98B7F-14A4-4CFA-9A29-0377E9590D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41B3E-FA99-4376-AADD-F4AE80BA1B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60D11-EE31-4A16-8A94-971B5F9A67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9742B-995E-4BB0-A530-D682D6CA33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3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4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5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1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4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61840-3CF0-4ABC-9176-E5F20488F9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CC854-9507-4482-9841-54F385A10A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2FA78-7C1E-4C57-8509-0A5E68D6BE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50986-7466-46AD-A4ED-4FFC58524A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79F6A-54E6-4FB5-9FC1-29E97F8710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29AD6-7FFE-46F6-87A3-71956697B8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5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67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1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87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88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89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DFB48-DAF0-4C2A-8F08-4A3B0D23B5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D6556-2532-4956-B99A-D4C18B7231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1" name="图片 2051" descr=""/>
          <p:cNvPicPr/>
          <p:nvPr/>
        </p:nvPicPr>
        <p:blipFill>
          <a:blip r:embed="rId1"/>
          <a:stretch/>
        </p:blipFill>
        <p:spPr>
          <a:xfrm>
            <a:off x="299880" y="2367000"/>
            <a:ext cx="8664840" cy="630360"/>
          </a:xfrm>
          <a:prstGeom prst="rect">
            <a:avLst/>
          </a:prstGeom>
          <a:ln w="0">
            <a:noFill/>
          </a:ln>
        </p:spPr>
      </p:pic>
      <p:pic>
        <p:nvPicPr>
          <p:cNvPr id="1022" name="图片 2052" descr=""/>
          <p:cNvPicPr/>
          <p:nvPr/>
        </p:nvPicPr>
        <p:blipFill>
          <a:blip r:embed="rId2"/>
          <a:stretch/>
        </p:blipFill>
        <p:spPr>
          <a:xfrm>
            <a:off x="709560" y="3645000"/>
            <a:ext cx="772488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0" name="图片 13313" descr=""/>
          <p:cNvPicPr/>
          <p:nvPr/>
        </p:nvPicPr>
        <p:blipFill>
          <a:blip r:embed="rId1"/>
          <a:stretch/>
        </p:blipFill>
        <p:spPr>
          <a:xfrm>
            <a:off x="471600" y="952560"/>
            <a:ext cx="8200800" cy="495288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1" descr=""/>
          <p:cNvPicPr/>
          <p:nvPr/>
        </p:nvPicPr>
        <p:blipFill>
          <a:blip r:embed="rId2"/>
          <a:stretch/>
        </p:blipFill>
        <p:spPr>
          <a:xfrm>
            <a:off x="2340000" y="3559320"/>
            <a:ext cx="863640" cy="44928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1" descr=""/>
          <p:cNvPicPr/>
          <p:nvPr/>
        </p:nvPicPr>
        <p:blipFill>
          <a:blip r:embed="rId3"/>
          <a:stretch/>
        </p:blipFill>
        <p:spPr>
          <a:xfrm>
            <a:off x="7091280" y="3573360"/>
            <a:ext cx="1368360" cy="44928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1" descr=""/>
          <p:cNvPicPr/>
          <p:nvPr/>
        </p:nvPicPr>
        <p:blipFill>
          <a:blip r:embed="rId4"/>
          <a:stretch/>
        </p:blipFill>
        <p:spPr>
          <a:xfrm>
            <a:off x="3981600" y="4321080"/>
            <a:ext cx="863280" cy="44928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1" descr=""/>
          <p:cNvPicPr/>
          <p:nvPr/>
        </p:nvPicPr>
        <p:blipFill>
          <a:blip r:embed="rId5"/>
          <a:stretch/>
        </p:blipFill>
        <p:spPr>
          <a:xfrm>
            <a:off x="5580000" y="4335480"/>
            <a:ext cx="863640" cy="44928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1" descr=""/>
          <p:cNvPicPr/>
          <p:nvPr/>
        </p:nvPicPr>
        <p:blipFill>
          <a:blip r:embed="rId6"/>
          <a:stretch/>
        </p:blipFill>
        <p:spPr>
          <a:xfrm>
            <a:off x="7093080" y="5099040"/>
            <a:ext cx="13665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5" name="图片 22529" descr=""/>
          <p:cNvPicPr/>
          <p:nvPr/>
        </p:nvPicPr>
        <p:blipFill>
          <a:blip r:embed="rId1"/>
          <a:stretch/>
        </p:blipFill>
        <p:spPr>
          <a:xfrm>
            <a:off x="480960" y="1090440"/>
            <a:ext cx="8182080" cy="467712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2"/>
          <a:stretch/>
        </p:blipFill>
        <p:spPr>
          <a:xfrm>
            <a:off x="1547640" y="206064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3"/>
          <a:stretch/>
        </p:blipFill>
        <p:spPr>
          <a:xfrm>
            <a:off x="1547640" y="285264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4"/>
          <a:stretch/>
        </p:blipFill>
        <p:spPr>
          <a:xfrm>
            <a:off x="1547640" y="364500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5"/>
          <a:stretch/>
        </p:blipFill>
        <p:spPr>
          <a:xfrm>
            <a:off x="1619280" y="443700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6"/>
          <a:stretch/>
        </p:blipFill>
        <p:spPr>
          <a:xfrm>
            <a:off x="1547640" y="5229360"/>
            <a:ext cx="50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3" name="图片 21506" descr=""/>
          <p:cNvPicPr/>
          <p:nvPr/>
        </p:nvPicPr>
        <p:blipFill>
          <a:blip r:embed="rId1"/>
          <a:stretch/>
        </p:blipFill>
        <p:spPr>
          <a:xfrm>
            <a:off x="4567320" y="3405240"/>
            <a:ext cx="9360" cy="47520"/>
          </a:xfrm>
          <a:prstGeom prst="rect">
            <a:avLst/>
          </a:prstGeom>
          <a:ln w="0">
            <a:noFill/>
          </a:ln>
        </p:spPr>
      </p:pic>
      <p:pic>
        <p:nvPicPr>
          <p:cNvPr id="1034" name="图片 21507" descr=""/>
          <p:cNvPicPr/>
          <p:nvPr/>
        </p:nvPicPr>
        <p:blipFill>
          <a:blip r:embed="rId2"/>
          <a:stretch/>
        </p:blipFill>
        <p:spPr>
          <a:xfrm>
            <a:off x="185760" y="1838160"/>
            <a:ext cx="8772480" cy="318168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3"/>
          <a:stretch/>
        </p:blipFill>
        <p:spPr>
          <a:xfrm>
            <a:off x="1258920" y="285264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8" name="图片 20481" descr=""/>
          <p:cNvPicPr/>
          <p:nvPr/>
        </p:nvPicPr>
        <p:blipFill>
          <a:blip r:embed="rId1"/>
          <a:stretch/>
        </p:blipFill>
        <p:spPr>
          <a:xfrm>
            <a:off x="485640" y="784080"/>
            <a:ext cx="8172720" cy="602964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2"/>
          <a:stretch/>
        </p:blipFill>
        <p:spPr>
          <a:xfrm>
            <a:off x="826920" y="79380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3"/>
          <a:stretch/>
        </p:blipFill>
        <p:spPr>
          <a:xfrm>
            <a:off x="826920" y="3933720"/>
            <a:ext cx="50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3" name="图片 8193" descr=""/>
          <p:cNvPicPr/>
          <p:nvPr/>
        </p:nvPicPr>
        <p:blipFill>
          <a:blip r:embed="rId1"/>
          <a:stretch/>
        </p:blipFill>
        <p:spPr>
          <a:xfrm>
            <a:off x="471600" y="917640"/>
            <a:ext cx="8200800" cy="52480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2"/>
          <a:stretch/>
        </p:blipFill>
        <p:spPr>
          <a:xfrm>
            <a:off x="770040" y="98100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3"/>
          <a:stretch/>
        </p:blipFill>
        <p:spPr>
          <a:xfrm>
            <a:off x="826920" y="3284640"/>
            <a:ext cx="50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8" name="图片 9217" descr=""/>
          <p:cNvPicPr/>
          <p:nvPr/>
        </p:nvPicPr>
        <p:blipFill>
          <a:blip r:embed="rId1"/>
          <a:stretch/>
        </p:blipFill>
        <p:spPr>
          <a:xfrm>
            <a:off x="752400" y="1447920"/>
            <a:ext cx="7639200" cy="396216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2"/>
          <a:stretch/>
        </p:blipFill>
        <p:spPr>
          <a:xfrm>
            <a:off x="1835280" y="249228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3"/>
          <a:stretch/>
        </p:blipFill>
        <p:spPr>
          <a:xfrm>
            <a:off x="1763640" y="407664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3" name="图片 10241" descr=""/>
          <p:cNvPicPr/>
          <p:nvPr/>
        </p:nvPicPr>
        <p:blipFill>
          <a:blip r:embed="rId1"/>
          <a:stretch/>
        </p:blipFill>
        <p:spPr>
          <a:xfrm>
            <a:off x="528480" y="858960"/>
            <a:ext cx="8087040" cy="581004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2"/>
          <a:stretch/>
        </p:blipFill>
        <p:spPr>
          <a:xfrm>
            <a:off x="900000" y="83664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3"/>
          <a:stretch/>
        </p:blipFill>
        <p:spPr>
          <a:xfrm>
            <a:off x="900000" y="162864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4"/>
          <a:stretch/>
        </p:blipFill>
        <p:spPr>
          <a:xfrm>
            <a:off x="942840" y="2349360"/>
            <a:ext cx="50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9" name="图片 12289" descr=""/>
          <p:cNvPicPr/>
          <p:nvPr/>
        </p:nvPicPr>
        <p:blipFill>
          <a:blip r:embed="rId1"/>
          <a:stretch/>
        </p:blipFill>
        <p:spPr>
          <a:xfrm>
            <a:off x="85680" y="765000"/>
            <a:ext cx="8972640" cy="604872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2"/>
          <a:stretch/>
        </p:blipFill>
        <p:spPr>
          <a:xfrm>
            <a:off x="1258920" y="635004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3"/>
          <a:stretch/>
        </p:blipFill>
        <p:spPr>
          <a:xfrm>
            <a:off x="1258920" y="400536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4"/>
          <a:stretch/>
        </p:blipFill>
        <p:spPr>
          <a:xfrm>
            <a:off x="1258920" y="246384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5"/>
          <a:stretch/>
        </p:blipFill>
        <p:spPr>
          <a:xfrm>
            <a:off x="1258920" y="170028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6"/>
          <a:stretch/>
        </p:blipFill>
        <p:spPr>
          <a:xfrm>
            <a:off x="1216080" y="555948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7" name="图片 11265" descr=""/>
          <p:cNvPicPr/>
          <p:nvPr/>
        </p:nvPicPr>
        <p:blipFill>
          <a:blip r:embed="rId1"/>
          <a:stretch/>
        </p:blipFill>
        <p:spPr>
          <a:xfrm>
            <a:off x="119160" y="755640"/>
            <a:ext cx="890568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36:38Z</dcterms:modified>
  <cp:revision>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